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D06-FB9F-4574-BB9E-1C0D397F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7C9-6323-4CC0-AE84-E980F62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7E175-8D8D-43A9-BA67-7CEC935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6ED00-8400-40E6-BF90-5DD2F7A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F3FE-00B3-4812-A363-0C036C75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6544C-825B-44A2-80FC-4D66E326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9386-05AC-4F54-BCE1-56BFC06C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95E60-7E6B-49E5-8A46-98990D6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2D5EF-1C2F-4143-B7D9-7E5BC948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7726-1990-408D-B55C-160C6B6F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0E1E-0EC5-436C-BB0E-6F0BBE85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FEE6-683C-45F1-B1FA-AC404359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131-54FF-45EE-9C4E-DFC59B0E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609F-FBBF-43EA-AFEA-5EE3AB9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9797-5DE5-44F9-AE87-E3A95015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EE8D-20FD-4889-88D3-5942D8BC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9D29E-2236-43A4-A009-AB576BF4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9CA95-2444-4A6C-B563-3027DFB3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2C08-7B1A-43B8-843D-4953ECE3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C847C-1B47-447B-B767-7CE0AE0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80BB8-1EE2-4656-8CA5-98D4BD3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C015-C830-41F1-BBA4-45DC0AA8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36B77-D19B-4FB6-95CC-6D18AA5C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B24-6AF5-481F-B70E-808F69C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28C4-D5CF-47B5-8D2F-DC8E856B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1F5CA-EE78-4F5C-9B64-81B95D26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E28E2-14CE-4588-B7EB-0B22702A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6B0E5-672A-4AC6-9753-8F08549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C45CA-1732-4180-91AE-0C39A2D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EB072-3CD0-4883-A3AF-2E041FF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C014B-37E0-4E1B-8B8A-DD9AE33B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7E5DC-D7BB-4EFB-84AF-B1E3122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CB7B6-0EF0-4955-A1D3-D03C70F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6DB30-847B-4FAC-878C-0BEA6A6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1DEE5-E78A-4048-B810-C7EEA10A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7582-8749-4591-A33D-F44EC92F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A5A7C-6A3E-4F05-BDAF-0E67567F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B9082-7926-46E3-920F-A2DD0373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7F034-1AE8-48B2-A365-A8AB18E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185FE-1ED7-4D1D-B6F0-760024BA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FE401-7440-4FD1-B3ED-FBF3183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C9DDD-C8D5-4F31-82CF-20B6363E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9E88-10BB-4D71-801A-14122F5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5C95E-E9F0-4DD4-9EA9-CD223A7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0AEC0-683F-4785-87D4-7E95324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C7AA2-F365-4883-B192-52A6693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F1046-D5FB-4C59-90D1-DAAB18BE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AC36A-5A98-4A40-97CE-F37CB572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2C1B-4BA1-4AC9-85C2-B6A78C2E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42C58-0276-4C9A-961E-059AB7D5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BF8C-1319-4289-BE1A-58F7F2B0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FB2E0-D980-4E2C-A819-0D02877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FCB81-E98F-4C8F-891C-92912A4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0FFD-B5B0-4DD9-83B9-1F6FE87A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0CA2-AE0B-4C43-BDDF-D8F9951A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5D1C3-1D8C-4673-9DBB-872A1925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358E4-557E-4D19-8788-B0BBF64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1C981-AE35-4935-9E44-FEFE9D03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88C70-D611-44F2-B29A-0D7A677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FDC8-163F-460F-BC85-E25D30E0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AB959-75A5-4D18-A979-29E354C8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27BB3-4E38-4739-A5B8-EA961929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EA739-E708-42B0-8FA1-01BB6D9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68046-E097-48D6-BEA8-535E045D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2DE88-6151-4095-BE91-1F3E6380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739E3-F8F5-4738-B9B1-BFC97B1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E4E67-B3C2-4495-99B9-DB940F4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A4C17-B60D-41C1-9E9A-AFD6851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8F793-A7AC-4158-931E-567EB3D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D474F-E281-4168-A1DF-9AA8D68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1B0D8-C4E6-43A7-985D-FFD0EC4F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17A6D-428C-46B4-BCB6-1F22BA49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94D3E-86B8-4331-99F2-B3479011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F1667-5941-4111-89FA-19854369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F4745-9AED-4749-B4D0-553BB52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2C966-94CE-40D9-979D-BC0EE03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B061D-8526-4109-9B60-BBDEF2B4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B37C4-B1A4-4238-BF54-ED2AACAA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893A6-058A-455C-86CA-58E7692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D84DD-1EF1-4EA3-A15B-54D5C02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7D0D6-B301-4C06-8E9B-A4EB3FC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2613E-2973-4EC3-9C87-3FE2466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5C4F3-8E31-4B23-81E2-C4E6AB1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2133B-8F7A-47DD-8E9E-632050F8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B6908-F089-4DF8-99E5-8B0B4B53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64B6A-7F21-40AD-9385-006EE799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741F3-D4B7-4F51-81F7-69F6809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1847B-3C75-4464-9101-744D4E4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21B2F-A318-4F00-94BF-9ECC913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08DFF-58D1-4F85-B5E9-842D6305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48661-1FB7-4A6C-B1CA-D2FFF71D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B6E81-0D21-4096-9C67-873380B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5F2D3-0A0F-435A-8405-3FD6F6C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A8374-0B25-4CE2-917E-F39C1E7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B0C11-209C-4DAE-923A-BF7311C9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5D8E0-4825-4A4F-BB43-36EC5E4C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B34A2-7D42-4385-89A4-67048926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F361A-9F1A-419E-B13A-0A489CDA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94506-7AA1-4C78-A6DC-739E1C5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3571A-B818-4726-96D1-7D5BD1B2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9DBCF-F79E-47A2-8797-0E8C0673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C1256-0246-46CF-A2DD-1F6B2B2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CDACE-E1C8-48C2-860B-8C6F7706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65A76-EC7C-4706-AB10-D82A58F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426-8A6B-422E-BE42-F37096DC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6F8DB-6D16-490E-A4C6-A45638F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CA50B-02DE-4675-879B-C2D1AD6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823F9-3C57-44AD-B2AB-271F4D2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B4243-D2F3-43EE-A728-C7BC6712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35474-7FC4-4C2D-B87F-BA0563AB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C6AD9-4107-493E-8A8F-CEBBAB5D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507A9-A66E-48B1-A78B-C7416551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A1AD5-F8B7-442D-888F-F5252A49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AF1AE-B8F3-48B8-862E-242F074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239D8-25BD-4A40-BD83-34ABD39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952C3-FF86-4231-8483-084EF86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D46A6-32E7-4DCF-9DBB-637FF7A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50C77-1CD2-4BDC-A311-81912C66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CD05D-37C2-4FF7-BB1F-05B5CF7E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2FD7A-D35A-4AC4-B3A3-31E1057F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7124B-A5EF-4605-BB7E-BADB8B90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D19CB-282F-442C-A7B1-0C444CD0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05F79-A59E-4B14-9106-BDFAA170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76234-C3BA-4BFA-B626-3A77C1D5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B32C2-1E4C-46FC-A6E0-58DB4003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E4405-A3BD-435D-8FCB-B5321D56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9A968-DAAB-4AA7-97B3-71B1E6B3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58027-D85D-47E3-92FB-8D35FF64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090A9-3A21-45F8-928A-87E5237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86688-1AA6-4557-A182-CD48357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27C6E-E50D-469A-AA74-8A78341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64826-389D-4E1F-A7B0-220348F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4E5A9-C175-44FC-8948-8F7FF608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2940B-C291-431C-8BCC-E9D51D46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A3E14-79B7-4ADD-9AB4-69EE3D4B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BA037-3477-4D95-BE5E-93ED83C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C29D1-1A55-4C2B-8E34-C96678AF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BF5B2-D86D-4992-BBDE-6BDB00A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8CDB0-E3AE-4281-911B-C369E193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739AC-2339-4522-AAF2-F5C55693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90BEE-E4A9-4D5B-8CF4-F537850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E4DB8-F0AA-4452-9F1C-3599DDB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FD5BF-6763-4478-9863-77D46FF0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D8B54-70F0-4CC9-AF44-C6E02521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60D1D-21F4-429F-9D30-D2CA397E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AE7FD-E848-4E24-8BFE-F1A122F1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7AA31-41AC-4974-B4C2-AB346FBC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673BE-11E1-427B-BBAE-0F1AF996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6476F-8F79-4F84-9540-EEE61B8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78533-7E43-427A-94A0-395156B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23BFD-ADF7-44A4-A274-88862FD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2EAFC-AD15-44DA-B19E-C6131EF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B4F60-1CCF-4753-B269-78DCED40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B140F-5864-4545-A0E1-1615BCA2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D23E5-AF22-418D-9FA1-9B20966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11D0F-C9AA-4F94-A399-DFD038D1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58DA4-09E3-4C47-BEFB-BA070335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8B57D-0AC0-4025-9282-EFA97B0B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A9351-420E-4C2D-9AAD-A9B959FE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F5BC2-2048-4929-8AF3-E4FD0D0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10BF0-A1F2-421E-B9C4-405275F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3096E-9427-46B8-AF2C-07E4EE9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1748B-30A6-4FD5-9B20-7980B355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A4A5E-DDC6-4F1B-AAE6-D1E9C372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7E244B-AA7D-4611-B9C0-76EE997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CBFD8-0BC4-4123-A3C9-B65932E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E69991-2B48-4E72-98AF-E656154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39EA2F-3765-46F6-919D-70A9A02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719E6-3AD6-404D-B7F6-ADA7EC65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EDA6B-DB34-4ED7-9477-67BBC377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05AC5-DE28-4265-9963-3FD829CA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73E9D-A301-452E-A05F-75301C7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DE7D5C-88D9-4581-B7ED-90AD381F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E0EFE-57D2-4438-820D-34E6F8A2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96BB1-72AA-4CF6-A2D5-9787167E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63BCA-572D-45B2-B3AE-1AEAF54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818FE-5F3F-4EA8-9258-5FC97C7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05C0C-E476-4ABA-858D-70E9BC8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77D63-C30F-4529-9D16-4FCB3BB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6811E-FCA6-4983-A618-C858BAB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028AC-0D44-4D17-910A-8686A799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F1AD7-3B27-409B-8F8A-FE096300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FD6C03-4FE7-467B-BDD2-0A91A1FC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BEAD0D-561E-4A95-9B2A-DE047580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6AE639-81F9-435F-927B-82C437E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3FF564-88DE-4EE1-8196-9BD6B04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C8DDC-79C6-4D23-98B7-6FD1EB5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3D797-6BB4-4C0D-A254-3E57E48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36E81-291C-430F-8BBB-D219BEB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A8CDBE-2A52-4B0E-9CB7-67AE9B5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3ABDBE-4770-4442-90D0-57182F1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19D39B-E0C7-4C41-B906-AF12C9BC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A1C5D-7357-4499-854E-F0879B18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549DBD-899B-4696-970B-D429EDB8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3644BA-FF84-4EEA-8D39-D347532A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658770-CFD8-4B21-A971-7016A521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C70BD0-20B0-4D8B-8336-FCABCD42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CBE347-22CB-48C5-9A14-D8DD93F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97065-602B-4295-BA5F-7CA12D5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902EC-A2FC-4CB6-BAE4-FE87DF9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25310-04BD-4963-AA19-C0452B6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556429-5D4C-4DE0-ADFF-E21B763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A2893-1027-4BFE-9D6B-19C5E0A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D7A55-0313-4C07-809C-0550D02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E615E7-5E26-4E7C-9D53-476F099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34B-91B6-4735-A296-F457A21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34B83-C5CB-4577-8CE6-F985E968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3A05DF-6504-4CE7-BF15-9B4F7C66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A90561-E972-4365-AEBB-D7F2AA8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989DBE-EDAE-48D6-9921-1938742D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0409D8-4D27-40E0-AC83-518DA4C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F651E-3D15-4531-BFEA-7C22A8F6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6909D-6E7B-42B2-BBC8-4A437519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F43E2-58B8-49EA-B132-EC22826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11362-4C6C-422D-A70B-061367A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F50A75-3B03-419F-AB32-70D716E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3300C3-DC17-4F48-ABB8-B93815A9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EFEE57-23E6-492A-AC7E-F2898B9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03AAE-0167-4C54-8AE0-FAC4B50A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FC3948-9CF4-444F-B695-EFE02B7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2F07AF-9B59-438D-9491-DBA8864B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7AAAEB-D70E-418C-A784-E491EDA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FDD3CC-7588-4BA9-BD00-2D5AC0E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95377-5EBA-4A82-AD18-B8DE9EF9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5B02D-D070-41C8-B9A1-6F5A5F29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3C18C6-C624-4944-B9C0-769BE04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0FEBA0-5FD8-4B23-A7B3-EA14BA5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08DC9-639E-443B-9248-4DC3122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189C44-50CA-4DB2-BAA5-D897011E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EDF71C-836F-4B01-8053-A2E0399C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5930AC-238C-4CC3-A171-E3343AC0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505845-A05A-46F0-A1EC-9D65459F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C5C3B2-D8BB-49D9-9DF6-A85A3DF5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B22033-763B-45D5-ACA8-33D2474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D5360F-4CB1-446A-A833-D714B5B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3AD963-29C9-40AD-977E-4654E6A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DD211-A646-44FD-959C-09B98BBD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E0DFD-7844-40BF-BE07-3224122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CF995E-83F9-4EFE-8B3D-035B61A7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D7CF54-609C-4770-A200-B837F25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2C9B3A-5C6C-4760-B7A8-D53CFF2F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4178DF-CD7D-4366-B1B9-9500F9F7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E01D81-085C-446B-ACEE-908B07CD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ACB934-2644-414D-819B-33D1167D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E7CF65-9297-434A-8946-6E01C766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BC03AB-79D0-4A72-A38E-F4F9475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6C0BDB-67AF-4E7F-9329-4AC8ABE1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DAF245-DFE4-47A0-B592-E470C06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6F2B78-4CC9-472E-BD29-38984518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7D36D7-F0E3-448E-A625-70060B2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3FD690-150D-4F45-B97F-0D76A3C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FFCEEF-EFF9-4458-8B85-FEA58C4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A661EA-48AE-4B37-A172-3A6BC75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485047-F704-45B0-8397-4D46B483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C3F36A-3244-49AD-BBEA-8B3F77F7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19CC80-5BED-405B-A280-E0341143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83E98B-A0DF-4F93-A256-0A11EE1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F660CA-B113-4B00-A907-26FB4D33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600A4E-294F-4A5C-BBFB-A786686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B1616-ACAB-4512-8DB5-7967687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DB00C5-7962-49CA-AA30-2B35270F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29BF51-66AB-4DCD-BD12-9EE4ACFC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745320-5156-470B-B2BD-383E400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D74A94-6423-4D6C-AD54-09B7015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9DB3B6-E952-4C65-9896-08BD3D5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91D943-055E-4048-B5A7-3B47DB4B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8A3199-BC52-447A-BBF1-158D8120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E9923A-EBD1-46D4-B686-14B72C9B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132DE3-C3B4-4ABC-B242-D2D4A915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1F7C33-1113-4CD1-BAF6-1455AFD6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135B86-586C-435B-A85B-5A8563B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C0192B-D119-408F-8CA0-5232FC10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D370EC-F768-4CF5-81BF-ABA4339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F6ABCF-F1B0-4234-B1F2-AE3DE8A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570211-32E8-4715-8894-E555ADE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C4533C-EF24-4712-9943-506279E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00C9-5E3B-4E4A-9CA4-B6F96812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7F056E-7760-4F91-A537-9904815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8E5398-68FA-4146-9303-E4C98E2D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4B88C8-6346-45E7-9D5F-1A1F4EF1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6E9-248B-42BE-8DBC-57BF884A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59B-0783-4280-876C-267FA8C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3FB-1A68-47FB-A0C1-EE45B2D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5A52-A7BD-4306-B488-C4E27B88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FD7A-3056-4607-9C45-9B7CB321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FD77-B949-4B90-968D-47C2F4A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A667-74CC-4E18-ADA5-282AE6A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A073-1DE8-4FA4-B806-90D00207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AEE-5F7E-438B-9D29-E31862C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965B-6855-4807-8284-12EC4DD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1B50-92F2-4DE3-A3CE-34176C5F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C3F9-75AD-4895-80AB-7F73828B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C97F-9BE5-43A8-B711-BDA0F46A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0D2-EF8C-4F6D-9C02-07605A8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7188-647D-47B1-A179-4B1301D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8CD9-CD8A-4A1E-BC58-D56BB3DF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8303-A2FD-46EF-A74B-69937A4D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0F1C-A452-4B5A-BB04-19F3E79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08B9-F5B6-43AC-A426-A0BCF90E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4B7D-1834-4367-B744-3677A5BF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04CF-A544-4D85-84F5-73E4E60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4F86-1B61-42F2-BE0A-4C58252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3B3E-9B9E-47A8-9858-570FE148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2C96-33B1-4711-93DE-17B74C79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491-B027-4C9B-B7FD-CCEDBF0B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E0E4-6BF9-4924-88E5-67792EE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25283-D501-4A90-A9E4-A0F27B11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0A85-5B11-421F-84A0-35A1F256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55BD-1E07-4878-95A2-FBE64CB9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A747-3A0A-4B80-A5BA-9E3F5AE7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19EA-1E62-4EDE-9ED6-79A2C62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C43DB-EFAE-4462-8670-70F0EDF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537D-FA55-4769-A200-6B5F3D9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3C87-C10B-4A3B-AA56-ACF414B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5185-3503-40F2-A411-02494CE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271-DB1A-4D5F-9D4C-815F365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3EA6-62DF-4712-9006-02EBE74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834A-A6D9-476A-965B-C523DA59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CAFF-2976-4502-915E-8EFF37C7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7A4D3-C03C-4A9C-8331-BFBDAEC1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9C40-CD0D-4F0F-8C53-CA34905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2C150-BBF9-4C14-87D4-671ADE97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C283-E371-4784-9922-52C0238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B4FE-E1A4-4DB0-B8D7-E4E53EE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12C84-0DFC-4B09-BE1D-EF17FBF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A7C3-AD79-4AED-AABE-EFAA1F5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B9E-6BA2-4EBF-8128-2ABD982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C0F8-3D3B-4CB7-9D88-7C4A506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B01C-1F1B-44C2-B04A-9112B39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9CE8-95A8-4F6F-A9AF-AEF90A3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060A-206F-43FA-AAB1-EF5C5A68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EE33-3BD7-42BD-A60A-36BFD70F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1804-01ED-444F-8B87-FBE82492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F5D2-3618-4409-B4A2-C8D1A6A2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3AD3-CDC5-49FB-9D3B-2FB7A3C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A1D62-BEBF-41F5-A2C3-23A7312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8147-8485-41FF-AB86-4417256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60C-A6BC-4D60-845A-707790B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3259-4BCF-45D4-8B9B-A75EF54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5674-6173-4F20-B9A0-DD9822D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FBE5-CA45-41FF-B73E-D606BDDB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7A246-34DA-4C9B-A57C-02EB82F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714D1-193C-49DE-A92B-48A33FD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7B6E-2D56-4E7D-88B6-30305AB7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3004-2603-4C1D-9BD8-B0546664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D9E77-6773-410B-BEF4-D8046302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9FF5-41A9-4602-975A-704987BE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DB7D5-B761-4DCE-8918-B0D30E23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76E-8E2D-473D-AF90-D4C85FCDC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DD5-6323-4FF8-8593-F9C40D3FCB42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1FC6-094C-4F4D-BE1A-185C321F13C0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C411-849D-4785-A46D-9AC895EB8EE2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95DA-FE9E-481A-9878-F40E4A64BAEC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EC4-F6A4-4DFA-8842-DA9073FF2E95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945-FF33-483E-A7F7-127AC6C4FDFB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4497-5A9F-4513-8C77-CBB2FC929F91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1E42-0079-447C-9098-4CE831888CF5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81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1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1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1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1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2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2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2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2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2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3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3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3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3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3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4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4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4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2FE4-92EB-415C-9929-91D07C1A08DC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88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8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8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8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9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9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9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9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9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0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0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0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0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1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FEE7-B759-4326-9D4D-1AA09F82C459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95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5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5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5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5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6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6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6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7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7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8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8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CE0-F79A-4C29-98F9-1E65F9B061E4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0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8E71-DFB3-4AD2-8D8E-730CF0F2165C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09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9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9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9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0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0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0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1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1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2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2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2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CF35-7FAD-4FE3-BFED-B2D8BBC6C6F8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16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6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7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7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7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7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7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8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8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8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9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9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9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79A3-DE59-4B84-8ACC-AB95E0BC1D89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23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3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4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4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4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4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4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5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5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5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5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5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26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6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26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E1C8-DE58-4A55-AEEE-C4D572DE451B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30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1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1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1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1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1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1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2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2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2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2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2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3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3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3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340" name="PlaceHolder 1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FDC-241A-4DE1-833E-57F5E057E07D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38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8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8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8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8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8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9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9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9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39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39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0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0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0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0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1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411" name="PlaceHolder 1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5B12-D5F6-46EE-9A43-D2E64A34C6D9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45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5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5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5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5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6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6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6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6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6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7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7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47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7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7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8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48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482" name="PlaceHolder 1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8BA3-B603-4652-B1E7-0DE97A84B6F7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52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2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2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2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2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3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3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3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3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3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4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4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4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4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4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5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5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5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F3F-BC0C-4920-A18D-097AB8BF000F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59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9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9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59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9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9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59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0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60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0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60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0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1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1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1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1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2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2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2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2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624" name="PlaceHolder 1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6DD6-31D2-4F0B-922F-47D5407C3CA2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66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66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6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6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66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6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7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67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7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67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7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8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8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8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69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9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9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9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69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A3B-6677-46A9-854A-6414E060B283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173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73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3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3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73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4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74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4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4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74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5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75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5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grpSp>
        <p:nvGrpSpPr>
          <p:cNvPr id="176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76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  <p:sp>
          <p:nvSpPr>
            <p:cNvPr id="176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Bradley Hand ITC"/>
              </a:endParaRPr>
            </a:p>
          </p:txBody>
        </p:sp>
      </p:grpSp>
      <p:sp>
        <p:nvSpPr>
          <p:cNvPr id="1766" name="PlaceHolder 1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459-19D4-4673-8820-D58623F5FE92}" type="slidenum"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41A-4A52-4F1A-8D7E-A364A1F4FF6F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AF7-D256-4E43-8BB8-563CE53A4619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031-67C0-4C24-B597-0A09C576F892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DEB8-6A3A-430E-B2AE-F90ED24B957E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A8AA-0F6C-4DCE-9810-546BE8845B2E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Bradley Hand IT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71FF-65B2-47FB-AE59-A37E321C723C}" type="slidenum"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Bradley Hand ITC"/>
              </a:rPr>
              <a:t>Transcendentalism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6" name="Picture 4" descr="Walden1"/>
          <p:cNvPicPr/>
          <p:nvPr/>
        </p:nvPicPr>
        <p:blipFill>
          <a:blip r:embed="rId1"/>
          <a:stretch/>
        </p:blipFill>
        <p:spPr>
          <a:xfrm>
            <a:off x="380880" y="1447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5"/>
          <p:cNvSpPr/>
          <p:nvPr/>
        </p:nvSpPr>
        <p:spPr>
          <a:xfrm>
            <a:off x="0" y="617220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http://www.huffenglish.com/powerpoints/transcendentalism.ppt</a:t>
            </a: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808" name="Picture 7" descr="http://www.pomperaug.com/research/forest.jpg"/>
          <p:cNvPicPr/>
          <p:nvPr/>
        </p:nvPicPr>
        <p:blipFill>
          <a:blip r:embed="rId2"/>
          <a:stretch/>
        </p:blipFill>
        <p:spPr>
          <a:xfrm>
            <a:off x="5486400" y="28195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Ralph Waldo Emer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5" name="Picture 6" descr="emerson"/>
          <p:cNvPicPr/>
          <p:nvPr/>
        </p:nvPicPr>
        <p:blipFill>
          <a:blip r:embed="rId1"/>
          <a:stretch/>
        </p:blipFill>
        <p:spPr>
          <a:xfrm>
            <a:off x="914400" y="1371600"/>
            <a:ext cx="3328920" cy="479412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3-18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ian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 and essay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ed the Transcendental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r lectu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ned from Harvard for 40 years following his Divinity School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r of abolitio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Picture 10" descr="j0298897"/>
          <p:cNvPicPr/>
          <p:nvPr/>
        </p:nvPicPr>
        <p:blipFill>
          <a:blip r:embed="rId2"/>
          <a:stretch/>
        </p:blipFill>
        <p:spPr>
          <a:xfrm>
            <a:off x="7620120" y="6059520"/>
            <a:ext cx="914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Henry David Thorea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9" name="Picture 6" descr="thoreau2"/>
          <p:cNvPicPr/>
          <p:nvPr/>
        </p:nvPicPr>
        <p:blipFill>
          <a:blip r:embed="rId1"/>
          <a:stretch/>
        </p:blipFill>
        <p:spPr>
          <a:xfrm>
            <a:off x="819000" y="1523880"/>
            <a:ext cx="3400560" cy="4191120"/>
          </a:xfrm>
          <a:prstGeom prst="rect">
            <a:avLst/>
          </a:prstGeom>
          <a:ln w="0">
            <a:noFill/>
          </a:ln>
        </p:spPr>
      </p:pic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17-18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teacher, essayist, po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famou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ld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vil Dis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uenced environmental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r of abolitio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1" name="Picture 10" descr="j0298897"/>
          <p:cNvPicPr/>
          <p:nvPr/>
        </p:nvPicPr>
        <p:blipFill>
          <a:blip r:embed="rId2"/>
          <a:stretch/>
        </p:blipFill>
        <p:spPr>
          <a:xfrm>
            <a:off x="7620120" y="5791320"/>
            <a:ext cx="914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Amos Bronson Alcot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99-18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 and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er of Temple School and Fruit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art, music, P.E., nature study, and field trips; banished corporal pun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her of novelist Louisa May Alc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4" name="Picture 6" descr="alcott"/>
          <p:cNvPicPr/>
          <p:nvPr/>
        </p:nvPicPr>
        <p:blipFill>
          <a:blip r:embed="rId1"/>
          <a:stretch/>
        </p:blipFill>
        <p:spPr>
          <a:xfrm>
            <a:off x="4754520" y="1600200"/>
            <a:ext cx="2703600" cy="373392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13" descr="j0298897"/>
          <p:cNvPicPr/>
          <p:nvPr/>
        </p:nvPicPr>
        <p:blipFill>
          <a:blip r:embed="rId2"/>
          <a:stretch/>
        </p:blipFill>
        <p:spPr>
          <a:xfrm>
            <a:off x="7620120" y="5791320"/>
            <a:ext cx="990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Margaret Full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10-1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ist, critic, women’s rights activ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ditor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transcendental 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female journalist to work on a major newspaper—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New York Trib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ught at Alcott’s Templ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8" name="Picture 6" descr="fuller"/>
          <p:cNvPicPr/>
          <p:nvPr/>
        </p:nvPicPr>
        <p:blipFill>
          <a:blip r:embed="rId1"/>
          <a:stretch/>
        </p:blipFill>
        <p:spPr>
          <a:xfrm>
            <a:off x="4876920" y="1600200"/>
            <a:ext cx="3044880" cy="434340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7" descr="j0298897"/>
          <p:cNvPicPr/>
          <p:nvPr/>
        </p:nvPicPr>
        <p:blipFill>
          <a:blip r:embed="rId2"/>
          <a:stretch/>
        </p:blipFill>
        <p:spPr>
          <a:xfrm>
            <a:off x="7924680" y="5969160"/>
            <a:ext cx="101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Ellery Chan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18-19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 and especially close friend of Tho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ed the first biography of Thoreau in 1873—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oreau, The Poet-Natur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2" name="Picture 9" descr="channing"/>
          <p:cNvPicPr/>
          <p:nvPr/>
        </p:nvPicPr>
        <p:blipFill>
          <a:blip r:embed="rId1"/>
          <a:stretch/>
        </p:blipFill>
        <p:spPr>
          <a:xfrm>
            <a:off x="4495680" y="1371600"/>
            <a:ext cx="3764160" cy="441972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10" descr="j0298897"/>
          <p:cNvPicPr/>
          <p:nvPr/>
        </p:nvPicPr>
        <p:blipFill>
          <a:blip r:embed="rId2"/>
          <a:stretch/>
        </p:blipFill>
        <p:spPr>
          <a:xfrm>
            <a:off x="7848720" y="5878440"/>
            <a:ext cx="11206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Resour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Transcendental Web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vcu.edu/engweb/transcendentalism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Transcendentalism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wsu.edu/~campbelld/amlit/amtrans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: Chapter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csustan.edu/english/reuben/pal/chap4/4intro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What do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 “transcendentalism” mean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is an ideal spiritual state which “transcends” the physical and empiric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oose collection of eclectic ideas about literature, philosophy, religion, social reform, and the general state of American cult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cendentalism had different meanings for each person involved in the mov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1" name="Picture 5" descr="http://www.wsu.edu/~campbelld/pics/crancheyeball.gif"/>
          <p:cNvPicPr/>
          <p:nvPr/>
        </p:nvPicPr>
        <p:blipFill>
          <a:blip r:embed="rId1"/>
          <a:stretch/>
        </p:blipFill>
        <p:spPr>
          <a:xfrm>
            <a:off x="5638680" y="1590840"/>
            <a:ext cx="32673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Where did it come from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ph Waldo Emerson gave German philosopher Immanuel Kant credit for popularizing the term “transcendentalis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began as a reform movement in the Unitarian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a religion—more accurately, it is a philosophy or form of spirit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entered around Boston and Concord, MA. in the mid-1800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son first expressed his philosophy of transcendentalism in his essa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4" name="Picture 5" descr="og-kant"/>
          <p:cNvPicPr/>
          <p:nvPr/>
        </p:nvPicPr>
        <p:blipFill>
          <a:blip r:embed="rId1"/>
          <a:stretch/>
        </p:blipFill>
        <p:spPr>
          <a:xfrm>
            <a:off x="6477120" y="1600200"/>
            <a:ext cx="23684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adley Hand ITC"/>
              </a:rPr>
              <a:t>What did Transcendentalists believe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uitive faculty, instead of the rational or sensical, became the means for a conscious union of the individual psyche (known in Sanskrit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with the world psyche also known as the Oversoul, life-force, prime mover and G-d (known in Sanskrit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rah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7" name="Picture 5" descr="Oversoul"/>
          <p:cNvPicPr/>
          <p:nvPr/>
        </p:nvPicPr>
        <p:blipFill>
          <a:blip r:embed="rId1"/>
          <a:stretch/>
        </p:blipFill>
        <p:spPr>
          <a:xfrm>
            <a:off x="5562720" y="1600200"/>
            <a:ext cx="3132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9" name="Picture 5" descr="EmersonCranch"/>
          <p:cNvPicPr/>
          <p:nvPr/>
        </p:nvPicPr>
        <p:blipFill>
          <a:blip r:embed="rId1"/>
          <a:stretch/>
        </p:blipFill>
        <p:spPr>
          <a:xfrm>
            <a:off x="1216080" y="1600200"/>
            <a:ext cx="2519280" cy="4525920"/>
          </a:xfrm>
          <a:prstGeom prst="rect">
            <a:avLst/>
          </a:prstGeom>
          <a:ln w="0">
            <a:noFill/>
          </a:ln>
        </p:spPr>
      </p:pic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dividual is the spiritual center of the universe, and in an individual can be found the clue to nature, history and, ultimately, the cosmos itself. It is not a rejection of the existence of G-d, but a preference to explain an individual and the world in terms of an individu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ucture of the universe literally duplicates the structure of the individual self—all knowledge, therefore, begins with self-knowledge. This is similar to Aristotle's dictum "know thyself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3" name="Picture 4" descr="nautilus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endentalists accepted the concept of nature as a living mystery, full of signs; nature is symbol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6" name="Picture 7" descr="galaxy"/>
          <p:cNvPicPr/>
          <p:nvPr/>
        </p:nvPicPr>
        <p:blipFill>
          <a:blip r:embed="rId1"/>
          <a:stretch/>
        </p:blipFill>
        <p:spPr>
          <a:xfrm>
            <a:off x="4267080" y="1600200"/>
            <a:ext cx="4678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Basic Premise #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belief that individual virtue and happiness depend upon self-realization—this depends upon the reconciliation of two universal psychological tendencies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sire to embrace the whole world—to know and become one with the worl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sire to withdraw, remain unique and separate—an egotistical existenc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9" name="Picture 5" descr="http://biocitizen.org/wp-content/uploads/2009/09/transcendentalism-photo-300x225.jpg"/>
          <p:cNvPicPr/>
          <p:nvPr/>
        </p:nvPicPr>
        <p:blipFill>
          <a:blip r:embed="rId1"/>
          <a:stretch/>
        </p:blipFill>
        <p:spPr>
          <a:xfrm>
            <a:off x="5943600" y="19051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adley Hand ITC"/>
              </a:rPr>
              <a:t>Who were the Transcendentalist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Ralph Waldo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David Tho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s Bronson Alco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et Fu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ry Ch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6" descr="j0298897"/>
          <p:cNvPicPr/>
          <p:nvPr/>
        </p:nvPicPr>
        <p:blipFill>
          <a:blip r:embed="rId2"/>
          <a:stretch/>
        </p:blipFill>
        <p:spPr>
          <a:xfrm>
            <a:off x="7772400" y="5638680"/>
            <a:ext cx="1066680" cy="93204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9" descr="http://www.vcu.edu/engweb/transcendentalism/images/p-authors.gif"/>
          <p:cNvPicPr/>
          <p:nvPr/>
        </p:nvPicPr>
        <p:blipFill>
          <a:blip r:embed="rId3"/>
          <a:stretch/>
        </p:blipFill>
        <p:spPr>
          <a:xfrm>
            <a:off x="4724280" y="2209680"/>
            <a:ext cx="3905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0:26:53Z</dcterms:created>
  <dc:creator>Dana Huff</dc:creator>
  <dc:description/>
  <dc:language>en-US</dc:language>
  <cp:lastModifiedBy>Beth</cp:lastModifiedBy>
  <dcterms:modified xsi:type="dcterms:W3CDTF">2012-03-22T22:59:13Z</dcterms:modified>
  <cp:revision>15</cp:revision>
  <dc:subject/>
  <dc:title>Transcendental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